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FC41-C301-4651-806C-2EA40B61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D805-228D-4108-883C-479826CC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409C-0241-41DE-9717-DAF8DBCD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9CA-ABF3-43AD-8BCC-127F696C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3303-2E97-4959-A388-3F595D26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0BC5-6302-4FA1-AC6D-9FD66557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D395-7A56-4A76-9334-025D90FA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1D14-836B-42F1-A5C8-206F13BC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62A5-B504-46BB-85E3-79E35773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1E7C-AEEC-4D30-97FA-6DFA9545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3F8D-B9CD-47C8-8E02-7C198273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8271-09F2-4A60-938A-C7906BCA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3372-871D-4FFC-B793-D5C2BB4B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4234-1353-47CE-8F3B-0089DFBD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966E-39C1-45E9-A9CB-47EFD5F1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DD2D-AD80-4AB2-85F1-7E729109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FB09-4144-42AA-9C67-47889FF2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7D031-C6FA-4EED-816B-ACA39F23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EF1A6-8EB5-4B74-88FC-FDCCB966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B0D37-0332-4AF8-AF26-BB8235FD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F37BB-3756-40D4-A3ED-BEE20833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78155-8CB3-490C-B616-833268A3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1A5A-7615-4200-95BE-5E8B25D6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660C9-18C3-4EC0-9822-3EEFB832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3B6C3-CE6F-42E6-98FF-3746E604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D5B49-ABDD-4041-B8FD-1AAC0B7A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82BC0-728A-48A5-BC00-941E7110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EBF17-55D0-49BA-8D63-4E9AD7B9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0B772-8193-49D1-8757-C911474A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C41BF-E43E-48F2-A042-ADC266F1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157C-3F5C-4BF6-ACBF-478E811F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83C3-FE79-4224-B7D4-53DB0602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5C9D-2024-427A-ABFB-087EA5B2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E303-6956-44A6-B6A1-8DBBC1D2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320E-7EAD-4338-9D47-9FAE3719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A11-85AE-49B8-9E62-F1D06F29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800F-A93D-4E8E-B31B-2E2D26088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FFE6-CF72-46D2-A724-920A9149DF2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38AE-922D-4960-A10A-C1627C5E728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 rot="20846400">
            <a:off x="914400" y="1447560"/>
            <a:ext cx="7238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igh Tower Text"/>
              </a:rPr>
              <a:t>Sesiunea iunie-iulie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igh Tower Text"/>
              <a:ea typeface="High Tower Tex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 Black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 Black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  <a:ea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11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În ansamblu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m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11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însă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11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totodată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în Asia de Sud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11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ffcc00"/>
                </a:solidFill>
                <a:latin typeface="Arial Black"/>
              </a:rPr>
              <a:t>2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ei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7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11</cp:lastModifiedBy>
  <dcterms:modified xsi:type="dcterms:W3CDTF">2012-06-18T11:11:56Z</dcterms:modified>
  <cp:revision>39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